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B9F3-3602-4A83-BB92-A13743A514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7320E2E-CFA5-470D-B505-5249809C65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73600" y="9477360"/>
            <a:ext cx="2949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38D4B884-EEEB-4EC0-9941-5B1F01CE581D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67120" y="9477360"/>
            <a:ext cx="29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1D7827BB-3A57-4B47-92C2-5FB3B1567712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67120" y="9477360"/>
            <a:ext cx="294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8B9FCD6F-3C28-40D8-B61A-0B6E31511767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67120" y="9477360"/>
            <a:ext cx="2952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D835EEE1-8B43-4B3D-889D-55E4EF7FDDB5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67120" y="9477360"/>
            <a:ext cx="2955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1154997D-4D4D-49F3-8413-DA7054C51FD3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67120" y="947880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B9C0FF94-276B-4A9E-87EA-3F3DCBF5E819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67120" y="94788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12CAFACF-BFB3-44AB-8191-C4A50EFCA401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9880" y="696960"/>
            <a:ext cx="446220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56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F47-3273-4D60-8DAE-DF3F550A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134-0461-4762-A96C-53976F6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958-4948-402C-A3BC-C710B626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05C-D768-4465-82A5-CCC95BAF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A06-1883-45DF-9C30-8F42928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D50-82C6-4810-A96B-7FF2648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81C-383A-4CF6-BCDD-49925763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36B7-A5E1-4299-881C-ADF8EB7C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A32-550E-4677-BEDC-D3E889E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D07-0E29-4156-87E0-1066CDA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59C-7D49-48E4-9A29-A4CC5117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3F6-B710-4F41-AA48-05FC3D1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1b6fd"/>
                  </a:gs>
                  <a:gs pos="100000">
                    <a:srgbClr val="c6e7f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c6e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e7f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2A2-AE76-4CD8-A22D-EC7A32185E12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Stella.Ibraeva\Desktop\1_6310.jpg"/>
          <p:cNvPicPr/>
          <p:nvPr/>
        </p:nvPicPr>
        <p:blipFill>
          <a:blip r:embed="rId1"/>
          <a:stretch/>
        </p:blipFill>
        <p:spPr>
          <a:xfrm>
            <a:off x="4410000" y="3774960"/>
            <a:ext cx="4381560" cy="2914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8000" y="6124320"/>
            <a:ext cx="3888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г. Астана, </a:t>
            </a:r>
            <a:r>
              <a:rPr b="0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2017</a:t>
            </a: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9280" y="1687680"/>
            <a:ext cx="891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01640" y="2492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Попечительские 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совет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E:\copy\СТЭЛЛА\НУЖНОЕ\ЛОГО-МОН (последний).png"/>
          <p:cNvPicPr/>
          <p:nvPr/>
        </p:nvPicPr>
        <p:blipFill>
          <a:blip r:embed="rId2"/>
          <a:stretch/>
        </p:blipFill>
        <p:spPr>
          <a:xfrm>
            <a:off x="3728880" y="314280"/>
            <a:ext cx="14194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1760400"/>
            <a:ext cx="446544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Любые принятые организацией образования поступления от благотворительной помощи зачисляются на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контрольный счёт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наличности благотворительной помощи, открытый в территориальном подразделении уполномоченного органа по исполнению бюджета, в соответствии с бюджетным законодательством Республики Казахстан – для организаций образования, созданных в организационно-правовой форме государственное учреждение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) счёт, открытый в банке второго уровня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– для организаций образования, созданных в иных организационно-правовых форма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32360" y="1760400"/>
            <a:ext cx="401940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Поступления от благотворительной помощи расходуютс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на следующие цели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циальная поддержка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вершенствова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материально-технической базы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развитие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спорта, поддержка одаренных детей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осуществле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расходов на организацию образовательного процесса сверх требований государственных общеобразовательных стандартов образован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50920" y="5284800"/>
            <a:ext cx="870876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рганизация образования ежегодно по итогам финансового год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информирует общественность о результатах деятельност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о использованию и движении средств благотворительной помощи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утем размещения соответствующего отчета на интернет-ресурсе данной организации образования, у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го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соответствующей отрасли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, местного исполнительного органа в област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ИЙ СОВ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И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8" name="Нашивка 7"/>
          <p:cNvSpPr/>
          <p:nvPr/>
        </p:nvSpPr>
        <p:spPr>
          <a:xfrm>
            <a:off x="4714920" y="1846440"/>
            <a:ext cx="360360" cy="57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1771560"/>
          <a:ext cx="8642160" cy="4848480"/>
        </p:xfrm>
        <a:graphic>
          <a:graphicData uri="http://schemas.openxmlformats.org/drawingml/2006/table">
            <a:tbl>
              <a:tblPr/>
              <a:tblGrid>
                <a:gridCol w="3440160"/>
                <a:gridCol w="1593720"/>
                <a:gridCol w="1593720"/>
                <a:gridCol w="2014560"/>
              </a:tblGrid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РЕГИ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5-20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6-20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Юридическая регистра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ҚР / Р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43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39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7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мола / Акмол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төбе / Актюб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/ Алмат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ырау / Атыр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ҚО / З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мбыл / Жамбыл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арағанды / Караган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останай / Костанай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ызылорда / Кызылор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ңғыстау / Мангист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ҚО / Ю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влодар / Павлодар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ҚО / С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ҚО / В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ана қ. / г. Аста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қ. / г. Алма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ЕКУЩАЯ СИТУАЦИЯ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321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Century Gothic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127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ЦЕ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9600" y="1844280"/>
            <a:ext cx="8448480" cy="28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дна из форм участия общества в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управлении образование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 Негосударственная, неправительственная, некоммерческая, общественная организация, которая объединяет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на добровольной основе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х, кто заинтересован в развитии образования и конкретного образовательного учреждения. </a:t>
            </a: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это не просто поддержка и финансирование, а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диалог с властью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 имени организаций образования, а главное - от имени гражданского общества. Возможны два правовых статуса Попечительского совета: с образованием юридического лица или без его образова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484360" y="4797360"/>
            <a:ext cx="6251760" cy="187164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Цель Попечительского совета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entury Gothic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действие организации образования в осуществлении ее уставных функций, в обеспечении финансовой поддержки, в укреплении материально-технической базы, а также осуществление общественного контроля за ее деятельность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Stella.Ibraeva\Desktop\images.jpg"/>
          <p:cNvPicPr/>
          <p:nvPr/>
        </p:nvPicPr>
        <p:blipFill>
          <a:blip r:embed="rId1"/>
          <a:stretch/>
        </p:blipFill>
        <p:spPr>
          <a:xfrm>
            <a:off x="250920" y="4797360"/>
            <a:ext cx="191772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324000" y="1846440"/>
            <a:ext cx="8496000" cy="242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</a:t>
            </a:r>
            <a:r>
              <a:rPr b="1" lang="en-US" sz="1700" spc="-1" strike="noStrike">
                <a:solidFill>
                  <a:srgbClr val="0070c0"/>
                </a:solidFill>
                <a:latin typeface="Century Gothic"/>
              </a:rPr>
              <a:t>  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Пункт 9 статьи 44 Закона РК «Об образовании»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«В организациях образования создаются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коллегиальные органы управления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  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Формами коллегиального управления организацией образовани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могут быть совет (ученый совет) организации образов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попечительский совет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, педагогический, методический советы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и другие формы, типовые правила организации работы которых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ключая порядок их избр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тверждаются уполномоченным органом в области образования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059280" y="4699080"/>
            <a:ext cx="5760720" cy="17398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70c0"/>
                </a:solidFill>
                <a:latin typeface="Century Gothic"/>
              </a:rPr>
              <a:t>Разработан НП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Приказ министра образования и науки Р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от 27 июля 2017 года № 35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«О</a:t>
            </a: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б утверждении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Типовых прави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рганизации работы Попечительского совета и порядок его избрания в организациях образовани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ОРМАТИВНЫЕ ПРАВОВЫЕ АКТЫ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77" name="Picture 2" descr="C:\Users\Stella.Ibraeva\Desktop\pravo11-250x212.jpg"/>
          <p:cNvPicPr/>
          <p:nvPr/>
        </p:nvPicPr>
        <p:blipFill>
          <a:blip r:embed="rId1"/>
          <a:stretch/>
        </p:blipFill>
        <p:spPr>
          <a:xfrm>
            <a:off x="324000" y="4521240"/>
            <a:ext cx="2381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77920" y="1841400"/>
            <a:ext cx="5532480" cy="4435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Century Gothic"/>
              </a:rPr>
              <a:t>взаимодействует с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администрацией организации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дительским комитетом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естными исполнительными орган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заинтересованными </a:t>
            </a:r>
            <a:r>
              <a:rPr b="0" lang="kk-KZ" sz="1900" spc="-1" strike="noStrike">
                <a:solidFill>
                  <a:srgbClr val="000000"/>
                </a:solidFill>
                <a:latin typeface="Century Gothic"/>
              </a:rPr>
              <a:t>государственными органами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иными физическими и/или юридическими лиц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56360" y="1863720"/>
            <a:ext cx="2665440" cy="2228400"/>
          </a:xfrm>
          <a:prstGeom prst="rect">
            <a:avLst/>
          </a:prstGeom>
          <a:noFill/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Попечительский сов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соз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организациях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ЗАИМОДЕЙСТВ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1" name="Picture 2" descr="C:\Users\Stella.Ibraeva\Desktop\about.png"/>
          <p:cNvPicPr/>
          <p:nvPr/>
        </p:nvPicPr>
        <p:blipFill>
          <a:blip r:embed="rId1"/>
          <a:stretch/>
        </p:blipFill>
        <p:spPr>
          <a:xfrm>
            <a:off x="5916600" y="4408560"/>
            <a:ext cx="31179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6" descr=""/>
          <p:cNvPicPr/>
          <p:nvPr/>
        </p:nvPicPr>
        <p:blipFill>
          <a:blip r:embed="rId1"/>
          <a:stretch/>
        </p:blipFill>
        <p:spPr>
          <a:xfrm>
            <a:off x="237960" y="1712880"/>
            <a:ext cx="874080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4" name="Picture 2" descr="C:\Users\Stella.Ibraeva\Desktop\proekty.png"/>
          <p:cNvPicPr/>
          <p:nvPr/>
        </p:nvPicPr>
        <p:blipFill>
          <a:blip r:embed="rId2"/>
          <a:stretch/>
        </p:blipFill>
        <p:spPr>
          <a:xfrm>
            <a:off x="6156360" y="2852640"/>
            <a:ext cx="27352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349200" y="1916280"/>
            <a:ext cx="426564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нечетным и составля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е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друг с другом и руководителем данной организаци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003640" y="1844640"/>
            <a:ext cx="3953160" cy="4667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четным и составля</a:t>
            </a:r>
            <a:r>
              <a:rPr b="1" i="1" lang="kk-KZ" sz="2000" spc="-1" strike="noStrike">
                <a:solidFill>
                  <a:srgbClr val="c00000"/>
                </a:solidFill>
                <a:latin typeface="Century Gothic"/>
              </a:rPr>
              <a:t>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руг с дру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 руководителем данной организации образования. Срок полномочий членов Попечительского совета составляет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один год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лены не входят в штат работников данной организации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304920" y="5676840"/>
            <a:ext cx="430056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личество чле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являющихся представителями государственных орга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превыша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ет </a:t>
            </a: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трех челов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Stella.Ibraeva\Desktop\Basic-Scrum-Team-Connected.jpg"/>
          <p:cNvPicPr/>
          <p:nvPr/>
        </p:nvPicPr>
        <p:blipFill>
          <a:blip r:embed="rId1"/>
          <a:stretch/>
        </p:blipFill>
        <p:spPr>
          <a:xfrm>
            <a:off x="1143000" y="357336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0647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ПРАВЛЕНИЯ РАБОТ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000"/>
            <a:ext cx="4897440" cy="49878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Оказание помощи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в проведении образовательных, социально-культурных, оздоровительных, развивающих мероприятий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лучшение бытовых условий и трудоустройство обучающихся                            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из социально уязвимых слоев населе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несение предложений, направленных на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устранение недостатков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 деятельности организации образова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Заслушивание отчета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перед Попечительским советом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2" descr="C:\Users\Stella.Ibraeva\Desktop\social-network-communities-image.jpg"/>
          <p:cNvPicPr/>
          <p:nvPr/>
        </p:nvPicPr>
        <p:blipFill>
          <a:blip r:embed="rId1"/>
          <a:stretch/>
        </p:blipFill>
        <p:spPr>
          <a:xfrm>
            <a:off x="5326200" y="4149720"/>
            <a:ext cx="352584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292720" y="1773360"/>
            <a:ext cx="354168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ение членами Попечительского совета своих полномочий осущест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а безвозмездной осн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95" name="Picture 4" descr="C:\Users\Stella.Ibraeva\Desktop\231d7f4.jpg"/>
          <p:cNvPicPr/>
          <p:nvPr/>
        </p:nvPicPr>
        <p:blipFill>
          <a:blip r:embed="rId1"/>
          <a:stretch/>
        </p:blipFill>
        <p:spPr>
          <a:xfrm>
            <a:off x="6364440" y="1916280"/>
            <a:ext cx="2597040" cy="2449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179280" y="1916280"/>
            <a:ext cx="6048360" cy="22842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существля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бщественный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 соблюдением прав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, а также за  расходованием благотворительной помощи, поступающих на счет образовательных учреждени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предложения о внесении изменений и/или дополнений в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тав организации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рекомендации по приоритетным направлениям развития 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1692360" y="4724280"/>
            <a:ext cx="720072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4) вырабатывает предложения по совершенствованию мер по вопросам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устройства детей-сирот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детей, оставшихся без попечения родителей в семьи казахстанских граждан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5)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аствует 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распределении финансовых средст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, поступивших в организацию образования в виде благотворите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принимает реше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е о его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целевом расходова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6"/>
          <p:cNvSpPr/>
          <p:nvPr/>
        </p:nvSpPr>
        <p:spPr>
          <a:xfrm>
            <a:off x="468360" y="4581360"/>
            <a:ext cx="1008000" cy="1440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5320 h 1440000"/>
              <a:gd name="textAreaBottom" fmla="*/ 1048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5" stAng="-5400000" swAng="-5400000"/>
                <a:lnTo>
                  <a:pt x="0" y="11745"/>
                </a:lnTo>
                <a:arcTo wR="21600" hR="7965" stAng="10800000" swAng="-3300017"/>
                <a:lnTo>
                  <a:pt x="16200" y="21347"/>
                </a:lnTo>
                <a:lnTo>
                  <a:pt x="21600" y="17820"/>
                </a:lnTo>
                <a:lnTo>
                  <a:pt x="16200" y="13787"/>
                </a:lnTo>
                <a:lnTo>
                  <a:pt x="16200" y="15677"/>
                </a:lnTo>
                <a:arcTo wR="21600" hR="7965" stAng="7499983" swAng="2991203"/>
                <a:lnTo>
                  <a:pt x="617" y="9855"/>
                </a:lnTo>
                <a:arcTo wR="21600" hR="7965" stAng="-10491187" swAng="5091187"/>
                <a:close/>
              </a:path>
              <a:path fill="darkenLess" w="21600" h="21600">
                <a:moveTo>
                  <a:pt x="21600" y="0"/>
                </a:moveTo>
                <a:arcTo wR="21600" hR="7965" stAng="-5400000" swAng="-5400000"/>
                <a:lnTo>
                  <a:pt x="0" y="7965"/>
                </a:lnTo>
                <a:arcTo wR="21600" hR="7965" stAng="10800000" swAng="-308813"/>
                <a:lnTo>
                  <a:pt x="617" y="9855"/>
                </a:lnTo>
                <a:arcTo wR="21600" hR="7965" stAng="-10491187" swAng="5091187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484360" y="1859040"/>
            <a:ext cx="575964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ырабатывает предложения при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формировани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и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 бюджета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носит предложения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м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соответствующей отрасли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ли местному исполнительному органу в области 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 устранении выявленных Попечительским советом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недостатков в работе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Stella.Ibraeva\Desktop\working_together_teamwork_puzzle_concept.jpg"/>
          <p:cNvPicPr/>
          <p:nvPr/>
        </p:nvPicPr>
        <p:blipFill>
          <a:blip r:embed="rId1"/>
          <a:stretch/>
        </p:blipFill>
        <p:spPr>
          <a:xfrm>
            <a:off x="263520" y="1859040"/>
            <a:ext cx="211140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244440" y="4005360"/>
            <a:ext cx="8720280" cy="2527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аслушива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тчеты руководител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изации образования о деятельности организации образования, в том числе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 качественном предоставлении образовательных услуг,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спользова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благотворительной помощ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принимаемых мерах по устройству детей-сирот и детей, оставшихся без попечения родителей в семьи казахстанских граждан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частвует в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конференциях, совещаниях, семинарах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по вопросам деятельности организаций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накомится  с деятельностью организации образования,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ловиями, предоставленными обучающимс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воспитанникам организации образования, проводят с ними беседу в присутствии психолога организации образ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2"/>
          <p:cNvSpPr/>
          <p:nvPr/>
        </p:nvSpPr>
        <p:spPr>
          <a:xfrm>
            <a:off x="8244000" y="26766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3378284"/>
                <a:lnTo>
                  <a:pt x="5400" y="21334"/>
                </a:lnTo>
                <a:lnTo>
                  <a:pt x="0" y="18352"/>
                </a:lnTo>
                <a:lnTo>
                  <a:pt x="5400" y="14838"/>
                </a:lnTo>
                <a:lnTo>
                  <a:pt x="5400" y="16462"/>
                </a:lnTo>
                <a:arcTo wR="21600" hR="8364" stAng="3378284" swAng="-3115316"/>
                <a:lnTo>
                  <a:pt x="21189" y="9988"/>
                </a:lnTo>
                <a:arcTo wR="21600" hR="8364" stAng="-262968" swAng="-5137032"/>
                <a:close/>
              </a:path>
              <a:path fill="darkenLess"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-262968"/>
                <a:lnTo>
                  <a:pt x="21189" y="9988"/>
                </a:lnTo>
                <a:arcTo wR="21600" hR="8364" stAng="-262968" swAng="-5137032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Ибраева Стэлла Амангельдиевна</cp:lastModifiedBy>
  <cp:lastPrinted>2017-06-12T09:40:53Z</cp:lastPrinted>
  <dcterms:modified xsi:type="dcterms:W3CDTF">2017-11-28T04:31:23Z</dcterms:modified>
  <cp:revision>73</cp:revision>
  <dc:subject/>
  <dc:title>Методический портфолио педагога</dc:title>
</cp:coreProperties>
</file>